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BC4-0F5E-4CE6-A0FD-A40A9139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41D-FB5A-404D-B977-FA00E9B3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7F9-A534-4BCD-B485-E9C0160A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0E38-49EB-454A-BFAC-E0764DE1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E07D-64EA-4576-88AD-95E97BDF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36600" y="35712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B3DB-64A9-4005-A681-C5D91F64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63CB-1EC6-4FEB-B0A2-FB2A9E84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C34-308C-4545-854A-D942DD30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426F-EC80-4136-AC61-7FA0F170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E80-5DE0-4485-9A32-2383BA3D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D54-5D08-49F0-8858-EF51581D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97AD-1789-42C3-8EC5-99DBA1B1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36600" y="35712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ddacf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6600" y="357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33cc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 algn="just"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 algn="just">
              <a:spcBef>
                <a:spcPts val="499"/>
              </a:spcBef>
              <a:buClr>
                <a:srgbClr val="cc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 algn="just">
              <a:spcBef>
                <a:spcPts val="499"/>
              </a:spcBef>
              <a:buClr>
                <a:srgbClr val="66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 algn="just">
              <a:spcBef>
                <a:spcPts val="499"/>
              </a:spcBef>
              <a:buClr>
                <a:srgbClr val="66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82267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25401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2540160"/>
            <a:ext cx="9144000" cy="43178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0" y="2594520"/>
            <a:ext cx="6816600" cy="253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9360" y="1825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Helvetica-Narrow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Helvetica-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0E3F-8049-4D90-93EA-1E45B6EFCEED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4760" y="565200"/>
            <a:ext cx="82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Sistemi Operativi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ahoma"/>
              </a:rPr>
              <a:t>SCHEDULING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ahoma"/>
              </a:rPr>
              <a:t>DELLA  CPU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4160" y="574560"/>
            <a:ext cx="8340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66"/>
                </a:solidFill>
                <a:latin typeface="Arial"/>
              </a:rPr>
              <a:t>First-Come, First-Served (FCFS) Scheduling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362240"/>
            <a:ext cx="7547040" cy="48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ctr" pos="304812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Primo arrivato, primo servito (gestito con coda FIFO).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0"/>
                <a:tab algn="ctr" pos="304812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 u="sng">
                <a:solidFill>
                  <a:srgbClr val="003366"/>
                </a:solidFill>
                <a:uFillTx/>
                <a:latin typeface="Tahoma"/>
              </a:rPr>
              <a:t>Processo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 u="sng">
                <a:solidFill>
                  <a:srgbClr val="003366"/>
                </a:solidFill>
                <a:uFillTx/>
                <a:latin typeface="Tahoma"/>
              </a:rPr>
              <a:t>Burst Time</a:t>
            </a:r>
            <a:r>
              <a:rPr b="0" lang="it-IT" sz="2000" spc="-1" strike="noStrike" u="sng">
                <a:solidFill>
                  <a:srgbClr val="003366"/>
                </a:solidFill>
                <a:uFillTx/>
                <a:latin typeface="Tahoma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0"/>
                <a:tab algn="ctr" pos="304812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1" i="1" lang="it-IT" sz="2000" spc="-1" strike="noStrike" baseline="-25000">
                <a:solidFill>
                  <a:srgbClr val="003366"/>
                </a:solidFill>
                <a:latin typeface="Tahoma"/>
              </a:rPr>
              <a:t>1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0"/>
                <a:tab algn="ctr" pos="304812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1" i="1" lang="it-IT" sz="20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0"/>
                <a:tab algn="ctr" pos="304812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1" i="1" lang="it-IT" sz="20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	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3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ctr" pos="304812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upponiamo che i processi arrivino nell’ordine: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1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,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,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3  </a:t>
            </a:r>
            <a:br>
              <a:rPr sz="2000"/>
            </a:b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Lo schema di Gantt è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0"/>
                <a:tab algn="ctr" pos="304812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ctr" pos="304812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Tempo di waiting per: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1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 = 0;    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 = 24;   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3 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= 27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ctr" pos="304812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Tempo di waiting medio:  (0 + 24 + 27)/3 = 17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852920" y="4086360"/>
            <a:ext cx="5552280" cy="1129320"/>
            <a:chOff x="1852920" y="4086360"/>
            <a:chExt cx="5552280" cy="1129320"/>
          </a:xfrm>
        </p:grpSpPr>
        <p:sp>
          <p:nvSpPr>
            <p:cNvPr id="104" name=""/>
            <p:cNvSpPr/>
            <p:nvPr/>
          </p:nvSpPr>
          <p:spPr>
            <a:xfrm>
              <a:off x="2016000" y="4086360"/>
              <a:ext cx="52578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8840" y="414288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66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80800" y="414288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5200" y="414288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66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16000" y="4695840"/>
              <a:ext cx="0" cy="22824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73800" y="4695840"/>
              <a:ext cx="0" cy="22824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69040" y="4086360"/>
              <a:ext cx="0" cy="60948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83440" y="4086360"/>
              <a:ext cx="0" cy="60948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69040" y="4695840"/>
              <a:ext cx="0" cy="22824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83440" y="4695840"/>
              <a:ext cx="0" cy="22824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42600" y="4847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57000" y="4847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27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71400" y="4847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52920" y="4847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23440" y="266760"/>
            <a:ext cx="72946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Scheduling FCF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33480" y="1362240"/>
            <a:ext cx="7143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upponiamo che i processi arrivino nell’ordin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1" i="1" lang="it-IT" sz="20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 , 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1" i="1" lang="it-IT" sz="20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 , 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1" i="1" lang="it-IT" sz="2000" spc="-1" strike="noStrike" baseline="-25000">
                <a:solidFill>
                  <a:srgbClr val="003366"/>
                </a:solidFill>
                <a:latin typeface="Tahoma"/>
              </a:rPr>
              <a:t>1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Lo schema di Gantt è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Tempo di waiting per 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1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=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6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;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= 0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;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3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= 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Tempo di waiting medio:   (6 + 0 + 3)/3 = 3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Molto meglio che nel caso precedent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Effetto convoglio: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i processi “brevi” attendono i processi “lunghi”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081520" y="2833560"/>
            <a:ext cx="5571000" cy="1129680"/>
            <a:chOff x="2081520" y="2833560"/>
            <a:chExt cx="5571000" cy="1129680"/>
          </a:xfrm>
        </p:grpSpPr>
        <p:sp>
          <p:nvSpPr>
            <p:cNvPr id="121" name=""/>
            <p:cNvSpPr/>
            <p:nvPr/>
          </p:nvSpPr>
          <p:spPr>
            <a:xfrm flipH="1">
              <a:off x="2231280" y="2833560"/>
              <a:ext cx="52578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781240" y="28904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66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418920" y="28904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66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504520" y="28904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89800" y="344304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32000" y="344304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37120" y="2833560"/>
              <a:ext cx="0" cy="60948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22720" y="2833560"/>
              <a:ext cx="0" cy="60948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37120" y="344304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2720" y="344304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992400" y="3594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078000" y="3594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218360" y="3594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081160" y="3594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2520" y="228600"/>
            <a:ext cx="72946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Scheduling Shortest-Job-First (SJF)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12680" y="1361880"/>
            <a:ext cx="7064640" cy="45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Associa ad ogni processo la lunghezza del prossimo CPU burst.  Usa questi tempi per schedulare il processo con la lunghezza minima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Due schemi: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3366"/>
                </a:solidFill>
                <a:latin typeface="Tahoma"/>
              </a:rPr>
              <a:t>nonpreemptive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– il processo assegnato non può essere sospeso prima di completare il suo CPU burst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3366"/>
                </a:solidFill>
                <a:latin typeface="Tahoma"/>
              </a:rPr>
              <a:t>preemptive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– se arriva un nuovo processo con un CPU burst più breve del tempo rimanente per il processo corrente, viene servito.  Questo schema è conosciuto come </a:t>
            </a:r>
            <a:r>
              <a:rPr b="1" i="1" lang="it-IT" sz="1800" spc="-1" strike="noStrike">
                <a:solidFill>
                  <a:srgbClr val="003366"/>
                </a:solidFill>
                <a:latin typeface="Tahoma"/>
              </a:rPr>
              <a:t>Shortest-Remaining-Time-First (SRTF)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SJF è ottimale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(rispetto al waiting time)– offre il minimo tempo medio di attesa per un insieme di processi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47240" y="13622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 u="sng">
                <a:solidFill>
                  <a:srgbClr val="003366"/>
                </a:solidFill>
                <a:uFillTx/>
                <a:latin typeface="Tahoma"/>
              </a:rPr>
              <a:t>Processo</a:t>
            </a:r>
            <a:r>
              <a:rPr b="0" lang="it-IT" sz="2000" spc="-1" strike="noStrike" u="sng">
                <a:solidFill>
                  <a:srgbClr val="003366"/>
                </a:solidFill>
                <a:uFillTx/>
                <a:latin typeface="Tahoma"/>
              </a:rPr>
              <a:t>	</a:t>
            </a:r>
            <a:r>
              <a:rPr b="0" lang="it-IT" sz="2000" spc="-1" strike="noStrike" u="sng">
                <a:solidFill>
                  <a:srgbClr val="003366"/>
                </a:solidFill>
                <a:uFillTx/>
                <a:latin typeface="Tahoma"/>
              </a:rPr>
              <a:t>Tempo Arrivo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 u="sng">
                <a:solidFill>
                  <a:srgbClr val="003366"/>
                </a:solidFill>
                <a:uFillTx/>
                <a:latin typeface="Tahoma"/>
              </a:rPr>
              <a:t>Tempo di Burst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1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0.0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2.0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4.0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4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5.0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JF (non-preemptive)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Tempo di attesa medio = (0 + 6 + 3 + 7)/4= 4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561600" y="266760"/>
            <a:ext cx="729468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Esempio di Non-Preemptive SJF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886040" y="3691080"/>
            <a:ext cx="5571000" cy="1129320"/>
            <a:chOff x="1886040" y="3691080"/>
            <a:chExt cx="5571000" cy="1129320"/>
          </a:xfrm>
        </p:grpSpPr>
        <p:sp>
          <p:nvSpPr>
            <p:cNvPr id="140" name=""/>
            <p:cNvSpPr/>
            <p:nvPr/>
          </p:nvSpPr>
          <p:spPr>
            <a:xfrm flipH="1">
              <a:off x="2035800" y="3691080"/>
              <a:ext cx="52578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729160" y="37476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66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329360" y="37476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66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243760" y="37476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94320" y="430056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36520" y="430056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79720" y="3691080"/>
              <a:ext cx="0" cy="60948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22520" y="3691080"/>
              <a:ext cx="0" cy="60948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22520" y="430056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22320" y="418788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171680" y="4452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2882520" y="4452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7022880" y="4452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885680" y="4452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386760" y="37476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66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99040" y="3691080"/>
              <a:ext cx="0" cy="60948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41440" y="418788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03560" y="418788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84440" y="418788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89360" y="418788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93920" y="418788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9720" y="430056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628880" y="4452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60960" y="418788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65520" y="418788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70440" y="418788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99040" y="430056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771880" y="4452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79920" y="418788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84840" y="418788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89760" y="418788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3880" y="285840"/>
            <a:ext cx="72946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Esempio di Preemptive SJF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77400" y="1361880"/>
            <a:ext cx="7099560" cy="44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 u="sng">
                <a:solidFill>
                  <a:srgbClr val="003366"/>
                </a:solidFill>
                <a:uFillTx/>
                <a:latin typeface="Tahoma"/>
              </a:rPr>
              <a:t>Processo</a:t>
            </a:r>
            <a:r>
              <a:rPr b="0" lang="it-IT" sz="2000" spc="-1" strike="noStrike" u="sng">
                <a:solidFill>
                  <a:srgbClr val="003366"/>
                </a:solidFill>
                <a:uFillTx/>
                <a:latin typeface="Tahoma"/>
              </a:rPr>
              <a:t>	</a:t>
            </a:r>
            <a:r>
              <a:rPr b="0" lang="it-IT" sz="2000" spc="-1" strike="noStrike" u="sng">
                <a:solidFill>
                  <a:srgbClr val="003366"/>
                </a:solidFill>
                <a:uFillTx/>
                <a:latin typeface="Tahoma"/>
              </a:rPr>
              <a:t>Tempo di Arrivo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 u="sng">
                <a:solidFill>
                  <a:srgbClr val="003366"/>
                </a:solidFill>
                <a:uFillTx/>
                <a:latin typeface="Tahoma"/>
              </a:rPr>
              <a:t>Tempo di Burst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1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0.0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2.0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4.0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4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5.0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JF (preemptive)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Tempo di attesa medio = (9 + 1 + 0 +2)/4 = 3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797120" y="3735360"/>
            <a:ext cx="5920200" cy="1205640"/>
            <a:chOff x="1797120" y="3735360"/>
            <a:chExt cx="5920200" cy="1205640"/>
          </a:xfrm>
        </p:grpSpPr>
        <p:sp>
          <p:nvSpPr>
            <p:cNvPr id="174" name=""/>
            <p:cNvSpPr/>
            <p:nvPr/>
          </p:nvSpPr>
          <p:spPr>
            <a:xfrm flipH="1">
              <a:off x="1947600" y="3749400"/>
              <a:ext cx="556272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030760" y="379188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66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26040" y="379188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66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793240" y="379188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91240" y="434484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47600" y="435924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90800" y="3749400"/>
              <a:ext cx="0" cy="60984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57440" y="3735360"/>
              <a:ext cx="0" cy="9144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33600" y="435924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168360" y="457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406240" y="457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682960" y="4496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796760" y="4510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154840" y="379188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66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10120" y="3749400"/>
              <a:ext cx="0" cy="60984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52520" y="424656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14640" y="424656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90800" y="435924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701880" y="457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72040" y="424656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76600" y="424656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81520" y="424656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10120" y="435924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539960" y="457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91000" y="424656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95920" y="424656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00840" y="424656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19200" y="3735360"/>
              <a:ext cx="0" cy="9144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52720" y="3735360"/>
              <a:ext cx="0" cy="9144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011840" y="379188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6526440" y="379188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66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05400" y="4246560"/>
              <a:ext cx="0" cy="228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283160" y="4496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7840" y="210960"/>
            <a:ext cx="72943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Scheduling con Priorità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7240" y="1361880"/>
            <a:ext cx="7029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Una priorità (numero intero) è assegnata ad ogni processo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La CPU è assegnata al processo con più alta priorità (es: il più piccolo intero </a:t>
            </a:r>
            <a:r>
              <a:rPr b="0" lang="it-IT" sz="20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la più alta priorità)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Preemptive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nonpreemptive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JF è uno scheduling con priorità stabilita dal valore del tempo del prossimo CPU burst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Problema </a:t>
            </a:r>
            <a:r>
              <a:rPr b="0" lang="it-IT" sz="20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</a:rPr>
              <a:t>Starvation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– i processi a più bassa priorità potrebbero non essere mai eseguiti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oluzione </a:t>
            </a:r>
            <a:r>
              <a:rPr b="0" lang="it-IT" sz="20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</a:rPr>
              <a:t>Aging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– al trascorrere del tempo di attesa si incrementa la priorità di un processo che attend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3520" y="263520"/>
            <a:ext cx="72946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Scheduling Round Robin (RR)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7240" y="1503360"/>
            <a:ext cx="7029720" cy="41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Ogni processo è assegnato alla CPU per un intervallo temporale fissato (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quanto di tempo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), ad es: 10-100 millisecondi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Quando il tempo è trascorso il processo viene tolto dalla CPU e inserito nella ready queu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e ci sono 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N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processi nella ready queue e il quanto di tempo è 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Q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, ogni processo ottiene 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1/N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del tempo della CPU a blocchi di lunghezza 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Q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. Nessun processo attende più di 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(N-1)Q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unità di tempo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Prestazioni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20720" indent="-27720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3366"/>
                </a:solidFill>
                <a:latin typeface="Tahoma"/>
              </a:rPr>
              <a:t>Q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 grande </a:t>
            </a:r>
            <a:r>
              <a:rPr b="0" lang="it-IT" sz="18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FIFO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20720" indent="-27720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3366"/>
                </a:solidFill>
                <a:latin typeface="Tahoma"/>
              </a:rPr>
              <a:t>Q 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piccolo </a:t>
            </a:r>
            <a:r>
              <a:rPr b="0" lang="it-IT" sz="18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003366"/>
                </a:solidFill>
                <a:latin typeface="Tahoma"/>
              </a:rPr>
              <a:t>Q deve essere molto più grande del tempo di context switch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, altrimenti il costo è troppo alto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69600" y="506520"/>
            <a:ext cx="782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660066"/>
                </a:solidFill>
                <a:latin typeface="Arial"/>
              </a:rPr>
              <a:t>Quanto di tempo e Context Switch</a:t>
            </a:r>
            <a:endParaRPr b="1" lang="en-US" sz="3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33294" t="23142" r="28783" b="55465"/>
          <a:stretch/>
        </p:blipFill>
        <p:spPr>
          <a:xfrm>
            <a:off x="1168560" y="2490840"/>
            <a:ext cx="6941880" cy="31338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1066680" y="1447920"/>
            <a:ext cx="702972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l quanto di tempo deve essere molto più grande del tempo di context switch, altrimenti il costo è troppo alto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9000" y="334800"/>
            <a:ext cx="80550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Esempio di RR con Q = 20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spcBef>
                <a:spcPts val="499"/>
              </a:spcBef>
              <a:buNone/>
              <a:tabLst>
                <a:tab algn="l" pos="0"/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 u="sng">
                <a:solidFill>
                  <a:srgbClr val="003366"/>
                </a:solidFill>
                <a:uFillTx/>
                <a:latin typeface="Tahoma"/>
              </a:rPr>
              <a:t>Processi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 u="sng">
                <a:solidFill>
                  <a:srgbClr val="003366"/>
                </a:solidFill>
                <a:uFillTx/>
                <a:latin typeface="Tahoma"/>
              </a:rPr>
              <a:t>tempo di burst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12120" indent="0" algn="just">
              <a:spcBef>
                <a:spcPts val="499"/>
              </a:spcBef>
              <a:buNone/>
              <a:tabLst>
                <a:tab algn="l" pos="0"/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1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53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12120" indent="0" algn="just">
              <a:spcBef>
                <a:spcPts val="499"/>
              </a:spcBef>
              <a:buNone/>
              <a:tabLst>
                <a:tab algn="l" pos="0"/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	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17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12120" indent="0" algn="just">
              <a:spcBef>
                <a:spcPts val="499"/>
              </a:spcBef>
              <a:buNone/>
              <a:tabLst>
                <a:tab algn="l" pos="0"/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68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12120" indent="0" algn="just">
              <a:spcBef>
                <a:spcPts val="499"/>
              </a:spcBef>
              <a:buNone/>
              <a:tabLst>
                <a:tab algn="l" pos="0"/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4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	</a:t>
            </a:r>
            <a:r>
              <a:rPr b="0" i="1" lang="it-IT" sz="2000" spc="-1" strike="noStrike" baseline="-25000">
                <a:solidFill>
                  <a:srgbClr val="003366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Gantt: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12120" indent="-31212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Tempo di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turnaround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maggiore di SJF, ma migliore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tempo di risposta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11360" y="3952800"/>
            <a:ext cx="6047280" cy="977040"/>
            <a:chOff x="1611360" y="3952800"/>
            <a:chExt cx="6047280" cy="977040"/>
          </a:xfrm>
        </p:grpSpPr>
        <p:grpSp>
          <p:nvGrpSpPr>
            <p:cNvPr id="217" name=""/>
            <p:cNvGrpSpPr/>
            <p:nvPr/>
          </p:nvGrpSpPr>
          <p:grpSpPr>
            <a:xfrm>
              <a:off x="1761840" y="3952800"/>
              <a:ext cx="5638320" cy="609120"/>
              <a:chOff x="1761840" y="3952800"/>
              <a:chExt cx="5638320" cy="609120"/>
            </a:xfrm>
          </p:grpSpPr>
          <p:sp>
            <p:nvSpPr>
              <p:cNvPr id="218" name=""/>
              <p:cNvSpPr/>
              <p:nvPr/>
            </p:nvSpPr>
            <p:spPr>
              <a:xfrm>
                <a:off x="1761840" y="3952800"/>
                <a:ext cx="563760" cy="60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0066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66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25600" y="3952800"/>
                <a:ext cx="563760" cy="60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0066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66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89360" y="3952800"/>
                <a:ext cx="563760" cy="60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0066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66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453120" y="3952800"/>
                <a:ext cx="563760" cy="60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0066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66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017240" y="3952800"/>
                <a:ext cx="563760" cy="60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0066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66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81000" y="3952800"/>
                <a:ext cx="563760" cy="60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0066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66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144760" y="3952800"/>
                <a:ext cx="563760" cy="60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0066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66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708520" y="3952800"/>
                <a:ext cx="563760" cy="60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0066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66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272640" y="3952800"/>
                <a:ext cx="563760" cy="60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0066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66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836400" y="3952800"/>
                <a:ext cx="563760" cy="60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0066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66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1611360" y="4561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81520" y="4561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15040" y="4561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37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18040" y="4561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57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34000" y="4561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77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67520" y="4561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97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37680" y="45615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117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47160" y="45615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121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80680" y="45615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134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64960" y="45615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154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98480" y="45615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162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2920" y="334800"/>
            <a:ext cx="72946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Scheduling a code multipl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5400" y="1362240"/>
            <a:ext cx="70819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La ready queue è partizionata in più code. Ad esempio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foreground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(processi interattivi)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background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(processi batch)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Ogni coda è gestita da un proprio algoritmo di scheduling. Ad esempio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foreground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 –  RR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background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– FCFS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E’ necessario uno scheduling tra le cod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3366"/>
                </a:solidFill>
                <a:latin typeface="Tahoma"/>
              </a:rPr>
              <a:t>Scheduling a priorità fissa 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: Possibilità di starvation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3366"/>
                </a:solidFill>
                <a:latin typeface="Tahoma"/>
              </a:rPr>
              <a:t>Quanto di tempo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: ogni coda ha un certo ammontare di tempo di CPU che usa per i suoi processi. Ad esempio: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33cc33"/>
              </a:buClr>
              <a:buSzPct val="9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80% ai processi interattivi con RR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33cc33"/>
              </a:buClr>
              <a:buSzPct val="9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20% ai processi batch con FCFS.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2040" y="266760"/>
            <a:ext cx="72946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Scheduling della CPU 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4840" y="157176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Concetti di Bas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Criteri di Scheduling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Algoritmi di Scheduling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FCFS, SJF, Round-Robin, A code multiple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cheduling in Multi-Processori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cheduling Real-Tim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Valutazione di Algoritmi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245880"/>
            <a:ext cx="768348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Scheduling a code multiple : Esempio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46240" y="2044800"/>
            <a:ext cx="7021440" cy="3051000"/>
          </a:xfrm>
          <a:prstGeom prst="rect">
            <a:avLst/>
          </a:prstGeom>
          <a:solidFill>
            <a:srgbClr val="cc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04640" y="2355120"/>
            <a:ext cx="3017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ocessi di sistema       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15360" y="209592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60066"/>
                </a:solidFill>
                <a:latin typeface="Arial"/>
              </a:rPr>
              <a:t>Priorità alta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33000" y="46994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60066"/>
                </a:solidFill>
                <a:latin typeface="Arial"/>
              </a:rPr>
              <a:t>Priorità bassa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92400" y="3020040"/>
            <a:ext cx="3030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ocessi  interattivi        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78360" y="3648960"/>
            <a:ext cx="3045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ocessi interattivi di editing 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81960" y="4293360"/>
            <a:ext cx="305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ocessi   batch         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503360" y="2452680"/>
            <a:ext cx="1571400" cy="2077560"/>
            <a:chOff x="1503360" y="2452680"/>
            <a:chExt cx="1571400" cy="2077560"/>
          </a:xfrm>
        </p:grpSpPr>
        <p:sp>
          <p:nvSpPr>
            <p:cNvPr id="250" name=""/>
            <p:cNvSpPr/>
            <p:nvPr/>
          </p:nvSpPr>
          <p:spPr>
            <a:xfrm>
              <a:off x="1522440" y="2452680"/>
              <a:ext cx="1552320" cy="139320"/>
            </a:xfrm>
            <a:prstGeom prst="rightArrow">
              <a:avLst>
                <a:gd name="adj1" fmla="val 50000"/>
                <a:gd name="adj2" fmla="val 278553"/>
              </a:avLst>
            </a:prstGeom>
            <a:gradFill rotWithShape="0">
              <a:gsLst>
                <a:gs pos="0">
                  <a:srgbClr val="993300"/>
                </a:gs>
                <a:gs pos="100000">
                  <a:srgbClr val="dfc0b1"/>
                </a:gs>
              </a:gsLst>
              <a:lin ang="10800000"/>
            </a:gra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15960" y="3117600"/>
              <a:ext cx="1552680" cy="139320"/>
            </a:xfrm>
            <a:prstGeom prst="rightArrow">
              <a:avLst>
                <a:gd name="adj1" fmla="val 50000"/>
                <a:gd name="adj2" fmla="val 278618"/>
              </a:avLst>
            </a:prstGeom>
            <a:gradFill rotWithShape="0">
              <a:gsLst>
                <a:gs pos="0">
                  <a:srgbClr val="993300"/>
                </a:gs>
                <a:gs pos="100000">
                  <a:srgbClr val="dfc0b1"/>
                </a:gs>
              </a:gsLst>
              <a:lin ang="10800000"/>
            </a:gra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09480" y="3746160"/>
              <a:ext cx="1552680" cy="139320"/>
            </a:xfrm>
            <a:prstGeom prst="rightArrow">
              <a:avLst>
                <a:gd name="adj1" fmla="val 50000"/>
                <a:gd name="adj2" fmla="val 278618"/>
              </a:avLst>
            </a:prstGeom>
            <a:gradFill rotWithShape="0">
              <a:gsLst>
                <a:gs pos="0">
                  <a:srgbClr val="993300"/>
                </a:gs>
                <a:gs pos="100000">
                  <a:srgbClr val="dfc0b1"/>
                </a:gs>
              </a:gsLst>
              <a:lin ang="10800000"/>
            </a:gra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3360" y="4390920"/>
              <a:ext cx="1552320" cy="139320"/>
            </a:xfrm>
            <a:prstGeom prst="rightArrow">
              <a:avLst>
                <a:gd name="adj1" fmla="val 50000"/>
                <a:gd name="adj2" fmla="val 278553"/>
              </a:avLst>
            </a:prstGeom>
            <a:gradFill rotWithShape="0">
              <a:gsLst>
                <a:gs pos="0">
                  <a:srgbClr val="993300"/>
                </a:gs>
                <a:gs pos="100000">
                  <a:srgbClr val="dfc0b1"/>
                </a:gs>
              </a:gsLst>
              <a:lin ang="10800000"/>
            </a:gra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6140520" y="2452680"/>
            <a:ext cx="1552680" cy="139680"/>
          </a:xfrm>
          <a:prstGeom prst="rightArrow">
            <a:avLst>
              <a:gd name="adj1" fmla="val 50000"/>
              <a:gd name="adj2" fmla="val 277899"/>
            </a:avLst>
          </a:prstGeom>
          <a:gradFill rotWithShape="0">
            <a:gsLst>
              <a:gs pos="0">
                <a:srgbClr val="dfc0b1"/>
              </a:gs>
              <a:gs pos="100000">
                <a:srgbClr val="993300"/>
              </a:gs>
            </a:gsLst>
            <a:lin ang="108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34040" y="3117960"/>
            <a:ext cx="1552680" cy="139680"/>
          </a:xfrm>
          <a:prstGeom prst="rightArrow">
            <a:avLst>
              <a:gd name="adj1" fmla="val 50000"/>
              <a:gd name="adj2" fmla="val 277899"/>
            </a:avLst>
          </a:prstGeom>
          <a:gradFill rotWithShape="0">
            <a:gsLst>
              <a:gs pos="0">
                <a:srgbClr val="dfc0b1"/>
              </a:gs>
              <a:gs pos="100000">
                <a:srgbClr val="993300"/>
              </a:gs>
            </a:gsLst>
            <a:lin ang="108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62840" y="3746520"/>
            <a:ext cx="1552320" cy="139680"/>
          </a:xfrm>
          <a:prstGeom prst="rightArrow">
            <a:avLst>
              <a:gd name="adj1" fmla="val 50000"/>
              <a:gd name="adj2" fmla="val 277835"/>
            </a:avLst>
          </a:prstGeom>
          <a:gradFill rotWithShape="0">
            <a:gsLst>
              <a:gs pos="0">
                <a:srgbClr val="dfc0b1"/>
              </a:gs>
              <a:gs pos="100000">
                <a:srgbClr val="993300"/>
              </a:gs>
            </a:gsLst>
            <a:lin ang="108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4390920"/>
            <a:ext cx="1552680" cy="139680"/>
          </a:xfrm>
          <a:prstGeom prst="rightArrow">
            <a:avLst>
              <a:gd name="adj1" fmla="val 50000"/>
              <a:gd name="adj2" fmla="val 277899"/>
            </a:avLst>
          </a:prstGeom>
          <a:gradFill rotWithShape="0">
            <a:gsLst>
              <a:gs pos="0">
                <a:srgbClr val="dfc0b1"/>
              </a:gs>
              <a:gs pos="100000">
                <a:srgbClr val="993300"/>
              </a:gs>
            </a:gsLst>
            <a:lin ang="108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94800" y="263520"/>
            <a:ext cx="72946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Scheduling per Multiprocessori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7240" y="18208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4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Lo scheduling nei sistemi multiprocessore è più complesso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 algn="just">
              <a:lnSpc>
                <a:spcPct val="14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i possono avere 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processori omogenei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(tutti uguali) o 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disomogenei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(diversi processori)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 algn="just">
              <a:lnSpc>
                <a:spcPct val="14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Problema del 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bilanciamento del carico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 (load balancing)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 algn="just">
              <a:lnSpc>
                <a:spcPct val="14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Multiprocessing Asimmetrico 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– solo un processore (master) accede alle strutture del sistema, gli altri (slave) eseguono programmi utent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8920" y="245880"/>
            <a:ext cx="729468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Scheduling Real-Tim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7240" y="1751040"/>
            <a:ext cx="702972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Tahoma"/>
              </a:rPr>
              <a:t>Sistemi hard real-time 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– i processi devono completare l’esecuzione entro un tempo fissato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3366"/>
                </a:solidFill>
                <a:latin typeface="Tahoma"/>
              </a:rPr>
              <a:t>Prenotazione delle risorse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: il processo viene accettato con una indicazione di tempo di completamento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Se il sistema non può soddisfare la richiesta rifiuta l’esecuzione del processo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Tahoma"/>
              </a:rPr>
              <a:t>Sistemi soft real-time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– i processi “critici” ricevono una maggiore priorità rispetto ai processi “normali”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Priorità non decrescente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Prelazione delle system call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97960" y="247680"/>
            <a:ext cx="72946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Scheduling di Windows 2000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rcRect l="738" t="22846" r="738" b="22811"/>
          <a:stretch/>
        </p:blipFill>
        <p:spPr>
          <a:xfrm>
            <a:off x="1170000" y="2498760"/>
            <a:ext cx="6811920" cy="340056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264" name=""/>
          <p:cNvSpPr/>
          <p:nvPr/>
        </p:nvSpPr>
        <p:spPr>
          <a:xfrm>
            <a:off x="814320" y="1369080"/>
            <a:ext cx="761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cheduling basato su 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priorità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(32 livelli e 6 classi di priorità) e 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prelazione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08000" y="4305240"/>
            <a:ext cx="7088400" cy="459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71400" y="317520"/>
            <a:ext cx="72439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Domand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Valutare i diversi algoritmi di scheduling sugli esempi usati per gli scheduling FCFS, SJF e RR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Come dovrebbe essere un algoritmo di scheduling per processi di tipo I/O bound ?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Valutare l’effetto di quanti di tempo differenti sull’algoritmo RR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Spiegare l’effetto della priorità dinamica sugli algoritmi di scheduling con priorità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285840"/>
            <a:ext cx="72946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Concetti di Bas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47240" y="1362240"/>
            <a:ext cx="702972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Lo scheduling della CPU è l’elemento fondamentale dei sistemi operativi con multiprogrammazion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L’obiettivo dello scheduling è la massimizzazione dell’utilizzo della CPU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Questo si ottiene assegnando al processore processi che sono pronti per eseguire delle istruzioni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Ciclo CPU – I/O Burst 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: l’esecuzione di un processo consiste di un ciclo di esecuzione nella CPU e attesa di I/O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44784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66"/>
                </a:solidFill>
                <a:latin typeface="Arial"/>
              </a:rPr>
              <a:t>Sequenza Alternata di CPU e I/O Burs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38275" t="10310" r="40601" b="52564"/>
          <a:stretch/>
        </p:blipFill>
        <p:spPr>
          <a:xfrm>
            <a:off x="2584440" y="1379520"/>
            <a:ext cx="3946680" cy="479736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360" y="285840"/>
            <a:ext cx="72946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Concetti di Bas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7240" y="1361880"/>
            <a:ext cx="7029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La distribuzione dei CPU burst dipende dalle attività dei diversi programmi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La frequenza dei CPU burst brevi è molto alta mentre la frequenza dei CPU burst lunghi è molto bassa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Differenza tra processi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CPU bound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e processi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I/O bound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Queste caratteristiche sono considerate nella selezione delle strategie di scheduling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2520" y="266760"/>
            <a:ext cx="72946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Scheduler della CPU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52200" y="1552320"/>
            <a:ext cx="7048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Lo scheduler a breve termine seleziona uno tra i processi in memoria pronti per essere eseguiti (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ready queue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) e lo assegna alla CPU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Lo scheduler interviene quando un processo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1.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Passa dallo stato </a:t>
            </a: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running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allo stato </a:t>
            </a: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waiting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2.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Passa dallo stato </a:t>
            </a: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running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allo stato </a:t>
            </a: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ready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3.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Passa dallo stato </a:t>
            </a: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waiting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allo stato </a:t>
            </a: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ready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4.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Termina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Nei casi 1 e 4 lo scheduling è 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</a:rPr>
              <a:t>nonpreemptive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 (senza prelazione)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Negli altri casi è  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</a:rPr>
              <a:t>preemptive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 (con prelazione)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2520" y="285840"/>
            <a:ext cx="72946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Dispatcher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7240" y="13622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l modulo 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dispatcher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svolge il lavoro di passare il controllo ai processi selezionati dallo scheduler della CPU per la loro esecuzione. Esso svolge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il context switch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il passaggio al modo utente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il salto alla istruzione da eseguire del programma corrente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l 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dispatcher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deve essere molto veloce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66"/>
                </a:solidFill>
                <a:latin typeface="Tahoma"/>
              </a:rPr>
              <a:t>Latenza di dispatch 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– tempo impiegato dal dispatcher per fermare un processo e far eseguire il successivo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2520" y="285840"/>
            <a:ext cx="72946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Criteri di Scheduling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0297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Nella scelta di una strategia di scheduling occorre tenere conto delle diverse caratteristiche dei programmi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CRITERI da considerare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13160" indent="-274320" algn="just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Utilizzo della CPU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– avere la CPU il più attiva possibile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13160" indent="-274320" algn="just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Throughput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– n° di processi completati nell’unità di tempo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13160" indent="-274320" algn="just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Tempo di turnaround 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– tempo totale per eseguire un processo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13160" indent="-274320" algn="just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Tempo di waiting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– tempo totale di attesa sulla ready queue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13160" indent="-274320" algn="just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Tempo di risposta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 – tempo da quando viene inviata una richiesta fino a quando si produce una prima risposta (non considerando il tempo di output)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6200" y="266760"/>
            <a:ext cx="72946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Criteri di Ottimizzazion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7240" y="13622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CRITERI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 algn="just">
              <a:lnSpc>
                <a:spcPct val="11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Massimizzare l’utilizzo della CPU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 algn="just">
              <a:lnSpc>
                <a:spcPct val="11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Massimizzare il throughput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 algn="just">
              <a:lnSpc>
                <a:spcPct val="11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Minimizzare il tempo di turnaround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 algn="just">
              <a:lnSpc>
                <a:spcPct val="11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Minimizzare il  tempo di waiting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 algn="just">
              <a:lnSpc>
                <a:spcPct val="11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Minimizzare il tempo di rispost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Generalmente si tende ad ottimizzare i valori medi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Nei sistemi time-sharing è più importante 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minimizzare la varianza del tempo di risposta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0T17:58:50Z</dcterms:created>
  <dc:creator>Marilyn Turnamian</dc:creator>
  <dc:description/>
  <dc:language>en-US</dc:language>
  <cp:lastModifiedBy>*</cp:lastModifiedBy>
  <cp:lastPrinted>2001-06-14T14:25:09Z</cp:lastPrinted>
  <dcterms:modified xsi:type="dcterms:W3CDTF">2004-05-06T14:20:41Z</dcterms:modified>
  <cp:revision>92</cp:revision>
  <dc:subject/>
  <dc:title>Module 6:  CPU Scheduling</dc:title>
</cp:coreProperties>
</file>