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BF208-FA88-45FF-8093-08224EBB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3A8C3-8638-4253-B04F-00BD03AE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0828A-1CF3-409E-B319-43CED645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97933-86FA-474C-A947-25F464BE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0F127-514B-4C55-9B7B-54B4FE75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47760" y="245880"/>
            <a:ext cx="777240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9049E-F1B1-4905-B8A5-49A54DC6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4F771-F938-41E9-AEB4-372456D1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B57E5-E3CA-48D4-BF6D-E6D49D16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F5285-1590-4567-8275-A8ECB55D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B8FCA-8A2A-426E-A19F-E39B4B52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846F1-801D-4C84-B9ED-39E470A6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54776-5C6D-4C50-AB92-2E8DBB24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7760" y="245880"/>
            <a:ext cx="777240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ddacf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5464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16956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33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2057400" indent="-228600" algn="just">
              <a:spcBef>
                <a:spcPts val="499"/>
              </a:spcBef>
              <a:buClr>
                <a:srgbClr val="66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2057400" indent="-228600" algn="just">
              <a:spcBef>
                <a:spcPts val="499"/>
              </a:spcBef>
              <a:buClr>
                <a:srgbClr val="66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219320"/>
            <a:ext cx="82267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2540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40160"/>
            <a:ext cx="9144000" cy="43178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0" y="2594520"/>
            <a:ext cx="6816600" cy="253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9360" y="1825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Helvetica-Narrow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Helvetica-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053C-875D-4816-866D-A3FD26602926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96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Introduzion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7240" y="1370160"/>
            <a:ext cx="7029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Cosa è un Sistema Operativo ?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Come funziona un sistema di elaborazion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Proprietà dei Sistemi Operativi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toria dei Sistemi di Elaborazion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istemi Mainfram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istemi Desktop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istemi Multiprocessori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istemi Distribuiti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istemi Real -Time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Cluster Computer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istemi Portatili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5720" y="29376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Uso di memoria ad alta velocità per memorizzare i dati più frequentemente accedut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Richiede una politica di 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cache management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l Caching introduce un altro livello nella gerarchia delle memorie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Questo richiede che i dati memorizzati in diversi livelli di memoria siano 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consistenti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9200" y="366480"/>
            <a:ext cx="77709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La struttura della CPU</a:t>
            </a:r>
            <a:endParaRPr b="1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320" y="1752480"/>
          <a:ext cx="8991360" cy="35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752480"/>
                    <a:ext cx="899136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71440"/>
            <a:ext cx="742464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000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125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In grado di eseguire solo istruzioni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odificate in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linguaggio macchin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 algn="just">
              <a:spcBef>
                <a:spcPts val="20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iclo Fetch – Decode - Execut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1004760" indent="-533160" algn="just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SzPct val="9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Prendi l’istruzione corrente dalla memoria e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mettila nel registro istruzioni (IR) (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fetch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1004760" indent="-533160" algn="just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SzPct val="9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Incrementa il Program Counter (PC) in modo che contenga l’indirizzo dell’istruzione successiva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1004760" indent="-533160" algn="just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SzPct val="9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Determina il tipo di istruzione da eseguire (</a:t>
            </a:r>
            <a:r>
              <a:rPr b="1" i="1" lang="it-IT" sz="1800" spc="-1" strike="noStrike">
                <a:solidFill>
                  <a:srgbClr val="003366"/>
                </a:solidFill>
                <a:latin typeface="Tahoma"/>
              </a:rPr>
              <a:t>decode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1004760" indent="-533160" algn="just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SzPct val="9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Se l’istruzione necessita di un dato in memoria determina dove si trova e caricalo in un registro della CPU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1004760" indent="-533160" algn="just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SzPct val="9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Esegui l’istruzione (</a:t>
            </a:r>
            <a:r>
              <a:rPr b="1" i="1" lang="it-IT" sz="1800" spc="-1" strike="noStrike">
                <a:solidFill>
                  <a:srgbClr val="003366"/>
                </a:solidFill>
                <a:latin typeface="Tahoma"/>
              </a:rPr>
              <a:t>execute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1004760" indent="-533160" algn="just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SzPct val="9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Torna al punto 1 e opera sull’istruzione successiva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43880" y="1757520"/>
            <a:ext cx="1500120" cy="150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Sistema Operativo : Alcune proprietà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12320" y="17398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nterfaccia testuale vs interfaccia grafic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Monoutente vs multiutent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Monotasking vs multitasking (multiprogrammato)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istemi operativi più diffusi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Ms-Dos (obsoleto)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Windows 95/98/ME/XP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Windows NT/2000/2003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Unix/Linux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Sistema Operativo : Un po’ di storia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12320" y="17398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rima generazione 1945 - 1955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valvole, schede perforate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conda generazione 1955 - 1965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nsistor, sistemi batch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Terza generazione 1965 – 1980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Circuiti integrati e sistemi multi programmabili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Quarta generazione 1980 – oggi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personal computer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Sistemi Mainfram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88560" y="18730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Obiettivo : ridurre il tempo di trasferimento del controllo tra un programma (Job) e l’altro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Automatic job sequencing: trasferimento automatico del controllo da un job all’altro. Primo sistema operativo rudimental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Monitor residente (S.O.)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controllo iniziale nel monitor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Controlla il transferimento dei job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Quando un job è completato il controllo passa al monitor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1440" y="528480"/>
            <a:ext cx="848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Memoria in un sistema Batch semplic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28366" t="1008" r="28204" b="805"/>
          <a:stretch/>
        </p:blipFill>
        <p:spPr>
          <a:xfrm>
            <a:off x="3157560" y="1349280"/>
            <a:ext cx="2566800" cy="4641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Sistema Batch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Multiprogrammato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98560" y="1305360"/>
            <a:ext cx="74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Numerosi programmi (job pool) sono tenuti in memoria contemporaneamente e la CPU è assegnata a loro di volta in volta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5423" t="934" r="25234" b="934"/>
          <a:stretch/>
        </p:blipFill>
        <p:spPr>
          <a:xfrm>
            <a:off x="3198960" y="2257560"/>
            <a:ext cx="2514600" cy="40003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1480" y="515880"/>
            <a:ext cx="821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aratteristiche del S.O. per la Multiprogrammazione</a:t>
            </a:r>
            <a:endParaRPr b="1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7560" y="19796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Routine di I/O fornite dal sistema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Gestione della memoria – il sistema deve allocare la memoria a più job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CPU scheduling – il sistema deve scegliere tra più job pronti ad essere eseguit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Allocazione dei dispositivi di input output  ai job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4440" y="511200"/>
            <a:ext cx="851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Sistemi Time-Sharing</a:t>
            </a:r>
            <a:endParaRPr b="1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9720" y="1685880"/>
            <a:ext cx="702936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a CPU è assegnata di volta in volta tra diversi programmi (jobs) che sono tenuti in memoria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0" algn="just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Un programma caricato in memoria e in esecuzione è detto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processo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0" algn="just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Un programma è copiato dalla memoria al disco e viceversa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a comunicazione è interattiva tra utente e sistema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Un file system on-line deve essere disponibile agli utenti per accedere dati e codic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5120" y="29196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Cosa è un Sistema Operativo ?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61560" y="1695240"/>
            <a:ext cx="702972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istema Operativo: programma che agisce come intermediario tra l’utente e l’hardware di un computer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Obiettivi di un Sistema Operativo 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Eseguire i programmi utente e aiutare gli utenti a risolvere i loro problemi tramite il computer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Rendere i computer convenienti da usare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Usare l’hardware di un computer in maniera efficiente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Alloca le risorse a più processi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Sistemi Desktop - PC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4240" y="1589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ersonal computers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– computer dedicato ad un singolo utent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/O devices – tastiera, mouse, display, piccola stampant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Convenienza e responsabilità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i è potuto usare la tecnologia sviluppata per altri sistemi di elborazione più compless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Può eseguire differenti tipi di sistemi operativi (Windows, MacOS, UNIX, Linux)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Sistemi Paralleli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Multiprocessori :  sistemi con più di una CPU e con connessioni brevi e veloc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istemi strettamente accoppiati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 (Tightly coupled systems)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i processori condividono la memoria e il clock; la comunicazione avviene tramite la memoria condivisa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Vantaggi: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Prestazioni superiori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Economicità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Affidabilità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Graceful degradation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Tolleranza ai guasti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7480" y="501480"/>
            <a:ext cx="8319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Sistema Parallelo : Architettura</a:t>
            </a:r>
            <a:endParaRPr b="1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658" t="34228" r="493" b="34228"/>
          <a:stretch/>
        </p:blipFill>
        <p:spPr>
          <a:xfrm>
            <a:off x="790560" y="2529000"/>
            <a:ext cx="7462800" cy="23079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Sistemi Distribuiti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Distribuiscono l’elaborazione tra diversi calcolatori collegati tra loro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istemi debolmente accoppiati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 (Loosely coupled systems)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Ogni processore ha la propria memoria locale e la comunicazione avviene tramite una rete. </a:t>
            </a:r>
            <a:r>
              <a:rPr b="0" lang="it-IT" sz="1800" spc="-1" strike="noStrike" u="sng">
                <a:solidFill>
                  <a:srgbClr val="003366"/>
                </a:solidFill>
                <a:uFillTx/>
                <a:latin typeface="Tahoma"/>
              </a:rPr>
              <a:t>Non esiste memoria condivisa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Vantaggi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Condivisione di risorse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Accelerazione dell’elaborazione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Affidabilità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Comunicazione e distribuzione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Sistemi Distribuiti 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Richiedono una infrastruttura di rete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Local area networks (LAN) or Wide area networks (WAN)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Possono usare un modello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client-server  oppure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peer-to-peer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Architettura client-server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522" t="32165" r="3944" b="31701"/>
          <a:stretch/>
        </p:blipFill>
        <p:spPr>
          <a:xfrm>
            <a:off x="952560" y="4210200"/>
            <a:ext cx="7080120" cy="200808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Cluster computer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Un cluster computer è composto da un insieme di macchine convenzionali connesse in rete per costituire un singolo sistema con condivisione dei dischi. (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Beowulf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Alta affidabilità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Basso costo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istemi cluster usano sistemi operativi ad hoc o sistemi operativi convenzionali con software di supporto per la comunicazione e condivisione dei dat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Sistemi Real-Tim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26640" y="174636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istemi con vincoli temporali ben definiti sull’elaborazione e sull’accesso alle risors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ono spesso usati per controllare dispositivi in applicazioni dedicate come: gestione di macchine o di robot, gestione di immagini in medicina, sistemi di controllo militare, gestione di dati scientifici, ecc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Algoritmi di scheduling specific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Sistemi portatili-mobili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Personal Digital Assistants (PDAs)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Palmtop, pocket PC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E-book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Telefoni Cellulari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Problemi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Memoria limitata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Processori lenti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Display piccoli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Domand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Quali sono gli obiettivi principali di un sistema operativo?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Quali sono i vantaggi della multiprogrammazione ?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Cos’è il ciclo fetch-decode-execute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Come funziona l’esecuzione di programmi con time-sharing ?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A cosa serve uno scheduler ?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Quali sono le caratteristiche dei sistemi distribuiti ?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Quali sono i principali requisiti dei sistemi operativi real-time ?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7760" y="2602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Componenti di un sistema di calcolo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7240" y="17384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spcBef>
                <a:spcPts val="499"/>
              </a:spcBef>
              <a:buClr>
                <a:srgbClr val="0066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Hardware – (CPU, Bus, memoria, dispositivi di I/O )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-380880" algn="just">
              <a:spcBef>
                <a:spcPts val="499"/>
              </a:spcBef>
              <a:buClr>
                <a:srgbClr val="006600"/>
              </a:buClr>
              <a:buSzPct val="9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istema Operativo – controlla e coordina l’uso dell’ hardware tra le varie applicazioni dei vari utent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-380880" algn="just">
              <a:spcBef>
                <a:spcPts val="499"/>
              </a:spcBef>
              <a:buClr>
                <a:srgbClr val="006600"/>
              </a:buClr>
              <a:buSzPct val="9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Programmi di sistema e applicativi – definiscono i modi in cui le risorse del sistema sono usate nella soluzione di un problema (compilatori, database, video games, fogli elettronici)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-3808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Utenti (persone, macchine, altri computer)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7760" y="245880"/>
            <a:ext cx="77724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Componenti di un sistema di calcolo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6994" t="7479" r="7576" b="5098"/>
          <a:stretch/>
        </p:blipFill>
        <p:spPr>
          <a:xfrm>
            <a:off x="1593720" y="1244520"/>
            <a:ext cx="6077160" cy="49752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385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Architettura di un calcolator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909" t="10484" r="1875" b="8114"/>
          <a:stretch/>
        </p:blipFill>
        <p:spPr>
          <a:xfrm>
            <a:off x="1550880" y="1452600"/>
            <a:ext cx="5961240" cy="39924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430280" y="5658840"/>
            <a:ext cx="63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Tahoma"/>
              </a:rPr>
              <a:t>Programma di Bootstrap &gt; Nucleo &gt; Sistema operativ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1880" y="29376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Funzionamento di un calcolator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9800" y="1376280"/>
            <a:ext cx="7067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 dispositivi (device) di I/O e la CPU possono essere in esecuzione concorrentement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Ogni controller si occupa di un particolare tipo di dispositivo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Ogni controller ha un buffer local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a CPU guida lo spostamento dei dati dalla memoria ai buffer locali e viceversa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’I/O avviene dal dispositivo al buffer locale del controller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 algn="just">
              <a:lnSpc>
                <a:spcPct val="13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l controller segnala che ha completato la sua operazione tramite un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interrupt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(segnale)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0280" y="330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Struttura della Memoria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Memoria Centrale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- celle di memoria accessibili direttamente dalla CPU (oltre ai registri)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Memoria Secondaria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- estensione della memoria centrale di grandi dimensioni e non volatil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Dischi Magnetici – piatti di metallo coperti da materiale magnetico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La superficie dei dischi è divisa logicamente in </a:t>
            </a:r>
            <a:r>
              <a:rPr b="0" i="1" lang="it-IT" sz="1800" spc="-1" strike="noStrike">
                <a:solidFill>
                  <a:srgbClr val="003366"/>
                </a:solidFill>
                <a:latin typeface="Tahoma"/>
              </a:rPr>
              <a:t>tracce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suddivise in </a:t>
            </a:r>
            <a:r>
              <a:rPr b="0" i="1" lang="it-IT" sz="1800" spc="-1" strike="noStrike">
                <a:solidFill>
                  <a:srgbClr val="003366"/>
                </a:solidFill>
                <a:latin typeface="Tahoma"/>
              </a:rPr>
              <a:t>settori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Il</a:t>
            </a:r>
            <a:r>
              <a:rPr b="0" i="1" lang="it-IT" sz="1800" spc="-1" strike="noStrike">
                <a:solidFill>
                  <a:srgbClr val="003366"/>
                </a:solidFill>
                <a:latin typeface="Tahoma"/>
              </a:rPr>
              <a:t> controller del disco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determina l’interazione tra il dispositivo e la CPU.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414680" y="3481560"/>
            <a:ext cx="495360" cy="366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1200" y="2746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Gerarchia di memori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e componenti della memoria di un computer possono essere organizzate in modo gerarchico in base 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Velocità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Costi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Volatilità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Altri tipi di memorie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: cache, registri, nastri, disco RAM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Caching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– copia dei dati in memorie più veloci; la memoria centrale può essere vista come una cache per la memoria secondaria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1520" y="29376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Gerarchia dei dispositivi di memoria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752" t="1303" r="2592" b="568"/>
          <a:stretch/>
        </p:blipFill>
        <p:spPr>
          <a:xfrm>
            <a:off x="1714680" y="1441440"/>
            <a:ext cx="5626080" cy="4665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38:26Z</dcterms:created>
  <dc:creator>Marilyn Turnamian</dc:creator>
  <dc:description/>
  <dc:language>en-US</dc:language>
  <cp:lastModifiedBy>*</cp:lastModifiedBy>
  <cp:lastPrinted>2001-06-14T13:58:17Z</cp:lastPrinted>
  <dcterms:modified xsi:type="dcterms:W3CDTF">2004-04-22T12:44:46Z</dcterms:modified>
  <cp:revision>111</cp:revision>
  <dc:subject/>
  <dc:title>Abstract View of System Components</dc:title>
</cp:coreProperties>
</file>