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0E9EA-0208-4696-8A52-9E75EF13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6FABE-EDCA-4A33-B03B-C342A22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C1EDC-B89D-44B0-BE5C-92D72B64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47940-4E3E-4BC7-A2A6-A91504D5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CA12E-2C2E-4ADE-A23A-1E6F6B3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6600" y="3571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6C485-9475-427D-94F2-55ACFBBE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57308-DD93-4C64-BF3A-0DC5246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6AAB-F35B-4C19-A116-8F217BD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EC18-ED01-46CD-8E51-44DE2705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47599-EABE-4B14-AC51-B733ADA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D7B3C-3811-41C8-9A3D-65EC206B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A1004-4AA8-43D3-B10D-A74C9E23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6600" y="3571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695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33cc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cc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2193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Helvetica-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A4C-1E86-439D-8043-BB36D1BC81D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4760" y="565200"/>
            <a:ext cx="82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istemi Operativ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GESTION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DEI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PROCESSI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280" y="476280"/>
            <a:ext cx="798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ady Queue e code dei dispositivi di I/O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4248" t="539" r="4107" b="690"/>
          <a:stretch/>
        </p:blipFill>
        <p:spPr>
          <a:xfrm>
            <a:off x="1673280" y="1270080"/>
            <a:ext cx="6059520" cy="5224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0120" y="2667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2720" y="1863360"/>
            <a:ext cx="7086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n un sistema possono esistere più scheduler (es. sistemi batch)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Scheduler a lungo termin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o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job scheduler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 – seleziona i processi da inserire nella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ready queu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la coda dei processi pronti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Scheduler a breve termin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o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CPU scheduler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 – seleziona tra i processi pronti quelli che devono essere esegui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667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heduler a medio termin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8040" y="1654200"/>
            <a:ext cx="708660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n alcuni sistemi time-sharing esiste uno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scheduler a medio termin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che gestisce i processi pronti in memoria centrale. (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swapper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n alcuni casi rimuove i processi dalla memoria (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swap-out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 per riportarli in memoria (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swap-in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 quando sarà possibile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Questo migliora l’utilizzo della memoria in caso di una alta richiesta di esecuzione di processi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667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heduler a medio termin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579" t="27388" r="579" b="27546"/>
          <a:stretch/>
        </p:blipFill>
        <p:spPr>
          <a:xfrm>
            <a:off x="590400" y="1911240"/>
            <a:ext cx="7345440" cy="3156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2476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heduler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7080" y="1366560"/>
            <a:ext cx="70675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 scheduler a breve termine è invocato molto frequentemente (millisecondi) </a:t>
            </a:r>
            <a:r>
              <a:rPr b="0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deve essere veloce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 scheduler a lungo termine è invocato non molto spesso (secondi, minuti) </a:t>
            </a:r>
            <a:r>
              <a:rPr b="0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può essere lento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 scheduler a lungo termine controlla il grado di multi-programmazione (n° dei processi in memoria)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processi possono essere classificati com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processi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I/O-</a:t>
            </a: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bound 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– basso uso della CPU e elevato uso dell’I/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processi CPU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bound 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– elevato uso della CPU e basso uso dell’I/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2880" y="3240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2960" y="1957320"/>
            <a:ext cx="710568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Context switch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: operazione di passaggio da un processo all’altro da parte della CPU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tempo impiegato per il context-switch time è un costo: il sistema non effettua lavoro utile per nessun processo utent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tempo di context switch dipende dal supporto offerto dall’hardwar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2440" y="2858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perazioni sui Processi: Creazion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4880" y="163332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processo qualsiasi può creare altri processi come suoi figli i quali possono creare altri processi, e cosi vi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220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sistema operativo crea i processi utente come processi figl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220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ossibile condivisione di risors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ocessi padri e figli condividono tutte le risors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Un processo figlio condivide una parte delle risorse del padr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ocessi padri e figli non condividono risors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22200" indent="0" algn="just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pprocci di esecuzion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ocessi padri e figli eseguono concorrentement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l padre rimane in attesa della terminazione dei figli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8720" y="2476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ssi Indipendenti o Cooperanti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524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rocessi indipendenti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non interagiscono con altri processi durante la loro esecuzion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I processi cooperanti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influenzano o possono essere influenzati da altri processi. Il comportamento dipende anche dall’ambiente estern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Vantaggi della cooperazion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ndivisione dell’informazione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Velocità di esecuzion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Modularità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nvenienza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2476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ssi Cooperanti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88920" y="1366560"/>
            <a:ext cx="71056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I processi cooperanti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 possono interagire tramit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cambio esplicito di dati,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incronizzazione su un particolare event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ndivisione dell’informazion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sistemi operativi offrono meccanismi per realizzare queste diverse forme di cooperazion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d esempio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end e receiv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emafori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monitor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hiamata di procedura remota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2220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lcuni linguaggi offrono anche meccanismi di cooperazione (es: Java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419120"/>
            <a:ext cx="702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thread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, detto anche processo leggero, è una unità di esecuzione che consiste di un program counter, lo stack e un insieme di regis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thread condivide con altri thread la sezione codice, la sezione dati, e le risorse che servono per la loro esecuzion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insieme di thread associati prendono il nome di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task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process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equivale ad un task con un unico thread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thread rendono più efficiente l’esecuzione di attività che condividono lo stesso codic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7960" y="361800"/>
            <a:ext cx="69184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Process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54120" y="15746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ncetto di Process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cheduling di Process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Operazioni su Process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ocessi Cooperant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ncetto di Thread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odelli Multithread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thread in Jav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640" y="1666800"/>
            <a:ext cx="7029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context switch tra thread è molto più veloc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sistema operativo composto da thread è più efficient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thread non sono tra loro indipendenti perché condividono codice e da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E’ necessario che le operazioni non generino conflitti tra i diversi thread di un task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ask con thread singoli e multipl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257" t="11813" r="2359" b="11563"/>
          <a:stretch/>
        </p:blipFill>
        <p:spPr>
          <a:xfrm>
            <a:off x="1325520" y="1695600"/>
            <a:ext cx="6553080" cy="3906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720" y="623880"/>
            <a:ext cx="68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enefic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Velocità di risposta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ndivisione di risors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Economia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so di architettura parallele (multiprocessore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422360" y="165240"/>
            <a:ext cx="31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66"/>
                </a:solidFill>
                <a:latin typeface="Arial"/>
              </a:rPr>
              <a:t>Thread in Java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53504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utti i programmi Java comprendono almeno un thread. Anche un programma costituito solo dal metodo main viene eseguito come un singolo thread. Inoltre, Java fornisce strumenti che consentono di creare e manipolare thread aggiuntivi nel programma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ono due modi per implementare thread in Java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inire una sottoclasse della clas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inire una classe che implementa l’interfacci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unnab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Questa modalità è più flessibile, in quanto consente di definire un thread che è sottoclasse di una classe diversa dalla classe Thread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finire una sottoclasse della classe Thread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99692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definisce una nuova classe che estende la classe Thread. La nuova classe deve ridefinire il metodo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run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a classe Thread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rea un’istanza della sottoclasse tramite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hiama il metodo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tart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ll’istanza creata. Questo determina l’invocazione del metodo run() dell’oggetto, e manda in esecuzione il Thread associato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empio di sottoclasse di Thread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76200"/>
            <a:ext cx="88390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ass Salu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xtends Threa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lic Saluti(String nome)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er(nome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ublic void run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(int i = 0; i &lt;= 10; i++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.out.println("Ciao da "+getName()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lic class ThreadTest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lic static void main(String args[])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uti t = new Saluti(“Thread1"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.start(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re una classe che implementa Runnabl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636560"/>
            <a:ext cx="883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definisce una nuova classe che implementa l’interfaccia Runnable. La nuova classe deve implementare il metodo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run(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ell’interfaccia Runnable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crea un’istanza della classe tramite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crea un’istanza della classe Thread, passando al suo costruttore un riferimento all’istanza della nuova classe definita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chiama il metodo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tart(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ull’istanza della classe Thread creata, determinando l’invocazione del metodo run() dell’oggetto Runnable associato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empio di classe che implementa Runnabl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282680"/>
            <a:ext cx="883908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ass Salu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plements Runnab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ivate String nome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lic Saluti(String nome)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s.nome = nome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ublic void run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(int i = 0; i &lt;= 10; i++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.out.println("Ciao da "+nome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lic class RunnableTest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lic static void main(String args[]) {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uti s = new Saluti("Thread2"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read t = new Thread (s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.start()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lasse Thread (1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79440"/>
            <a:ext cx="883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ttori principali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read 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rea un nuovo oggetto Thread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read (String name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rea un nuovo oggetto Thread con nom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read (Runnable target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rea un nuovo oggetto Thread a partire dall’oggett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read (Runnable target, String name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rea un nuovo oggetto Thread con nom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partire dall’oggett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Metodi principali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ring getName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restituisce il nome di questo Thread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oid join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ttende fino a quando questo Thread non termina l’esecuzione del proprio metodo run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lasse Thread (2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243080"/>
            <a:ext cx="883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oid join(long milli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ttende, per un tempo massim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ll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illisecondi,  fino a quando questo Thread non termina l’esecuzione del proprio metodo run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oid run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specifica le operazioni svolte dal Thread. Deve essere ridefinito dalla sottoclasse, altrimenti non effettua alcuna operazione. Se il Thread è stato costruito a partire da un oggetto Runnable, allora verrà invocato il metodo run di tale oggetto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atic void sleep(long milli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determina l’interruzione dell’esecuzione del Thread corrente per un temp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ll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illisecondi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oid start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fa partire l’esecuzione del Thread. Viene invocato il metodo run di questo Thread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atic void yield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determina l’interruzione temporanea del Thread corrente, e consente ad altri Thread di essere eseguiti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9760" y="324000"/>
            <a:ext cx="68245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Concetto di Process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12320" y="1314360"/>
            <a:ext cx="70297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’esecuzione di programmi ha diversi nomi in diversi contesti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05600" indent="-2714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istemi Batch –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job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05600" indent="-2714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istemi Time-sharing–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processo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o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task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termini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job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rocess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si usano spesso come sinonim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Process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: un programma in esecuzione; l’esecuzione di un singolo processo avviene in maniera sequenzial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processo includ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05600" indent="-2714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ezione testo (codice),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05600" indent="-2714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l program counter,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05600" indent="-2714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lo stack,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05600" indent="-2714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la sezione dati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gramma di stato di un Thread Java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567" t="30241" r="676" b="30241"/>
          <a:stretch/>
        </p:blipFill>
        <p:spPr>
          <a:xfrm>
            <a:off x="642960" y="2139840"/>
            <a:ext cx="7709040" cy="2868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omand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Descrivere le variazioni di stato di un processo che effettua molte operazioni di I/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s’è il context switch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me sono gestiti i thread in Jav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Elencare le differenza principali tra i processi e i thread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 cosa serve uno scheduler a medio termine e uno a lungo termin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9680" y="304920"/>
            <a:ext cx="67579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tato del Processo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029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Durante la sua esecuzione un processo cambia il proprio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stato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he può esser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new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:  Il processo viene creat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running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:  Il processo (le sue istruzioni) è in esecuzion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waiting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:  Il processo è in attesa di un dato event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ready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:  Il processo è pronto per essere eseguit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terminated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:  Il processo ha completato la sua esecuzion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600" y="2858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agramma di stato di un Process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61" t="25693" r="590" b="25545"/>
          <a:stretch/>
        </p:blipFill>
        <p:spPr>
          <a:xfrm>
            <a:off x="0" y="1609560"/>
            <a:ext cx="9677520" cy="47340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951120" y="256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89520" y="327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51840" y="329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520" y="2858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6560" y="15526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PCB contiene l’informazione associata ad ogni processo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tato del process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ogram counter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registri della CPU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nfo sullo scheduling della CPU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nformazioni di memory-management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nformazioni di accounting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tato dell’I/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D del process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D dell’utent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2667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17880" y="1490040"/>
            <a:ext cx="2879280" cy="4186080"/>
            <a:chOff x="3017880" y="1490040"/>
            <a:chExt cx="2879280" cy="4186080"/>
          </a:xfrm>
        </p:grpSpPr>
        <p:sp>
          <p:nvSpPr>
            <p:cNvPr id="102" name=""/>
            <p:cNvSpPr/>
            <p:nvPr/>
          </p:nvSpPr>
          <p:spPr>
            <a:xfrm>
              <a:off x="3017880" y="1490040"/>
              <a:ext cx="287928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puntatore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17880" y="1908000"/>
              <a:ext cx="287928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Stato del processo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17880" y="2326320"/>
              <a:ext cx="287928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Program counter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17880" y="2756160"/>
              <a:ext cx="2879280" cy="785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Registri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17880" y="3602520"/>
              <a:ext cx="287928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limiti di memoria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7880" y="4021560"/>
              <a:ext cx="287928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Lista dei file aperti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17880" y="4473360"/>
              <a:ext cx="2879280" cy="1202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560" y="3240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mmutazione della CPU da Processo a Process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227" t="831" r="2958" b="1048"/>
          <a:stretch/>
        </p:blipFill>
        <p:spPr>
          <a:xfrm>
            <a:off x="1635120" y="1363680"/>
            <a:ext cx="6045120" cy="50576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2400" y="3240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de di Schedul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3480" y="1885680"/>
            <a:ext cx="702936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Coda dei processi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– l’insieme di tutti i processi nel sistem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Ready queu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– l’insieme dei processi in memoria centrale pronti per essere esegui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Coda del dispositiv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– l’insieme dei processi in attesa di usare un dispositivo. (Più code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processi passano da una coda all’altra mentre cambiano stat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2:46:17Z</dcterms:created>
  <dc:creator>Marilyn Turnamian</dc:creator>
  <dc:description/>
  <dc:language>en-US</dc:language>
  <cp:lastModifiedBy>*</cp:lastModifiedBy>
  <cp:lastPrinted>2001-06-14T14:14:54Z</cp:lastPrinted>
  <dcterms:modified xsi:type="dcterms:W3CDTF">2004-04-27T09:35:32Z</dcterms:modified>
  <cp:revision>99</cp:revision>
  <dc:subject/>
  <dc:title>Module 4:  Processes</dc:title>
</cp:coreProperties>
</file>