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605B-F770-4B4B-9727-0D6FF5F1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AD0-3DEF-4B07-899F-15226934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9FC0-5183-4322-9EBB-4B7210AB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3AD-565B-4682-99A0-315B6806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5DDC-EC23-4D28-AB6B-C53369B8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29B-AE38-48D2-893E-21C6B091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0D1-8D00-4CEB-88AC-525BA9C9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8352-8530-4E64-921E-C316FF5A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246-5527-46E8-927C-197A67C1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0E64-CB14-4EE2-9E2A-6AF3659E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70D8-88E4-4B76-ACB6-C55D903C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920-F792-4141-B0B6-4D995DD9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13416" t="35021" r="6746" b="5896"/>
          <a:stretch/>
        </p:blipFill>
        <p:spPr>
          <a:xfrm>
            <a:off x="0" y="0"/>
            <a:ext cx="1521000" cy="844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.A. 2006/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boratorio di Reti di Calcola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600D-5033-4441-A4D9-780C7F5F315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(Es. –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-25560" y="33480"/>
            <a:ext cx="8721720" cy="0"/>
          </a:xfrm>
          <a:prstGeom prst="line">
            <a:avLst/>
          </a:prstGeom>
          <a:ln w="76320">
            <a:solidFill>
              <a:srgbClr val="6699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 flipV="1">
            <a:off x="34920" y="-16200"/>
            <a:ext cx="0" cy="6553080"/>
          </a:xfrm>
          <a:prstGeom prst="line">
            <a:avLst/>
          </a:prstGeom>
          <a:ln w="76320">
            <a:solidFill>
              <a:srgbClr val="6699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3"/>
          <p:cNvSpPr/>
          <p:nvPr/>
        </p:nvSpPr>
        <p:spPr>
          <a:xfrm rot="5400000">
            <a:off x="748800" y="-749160"/>
            <a:ext cx="968400" cy="2467080"/>
          </a:xfrm>
          <a:prstGeom prst="rtTriangle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4"/>
          <p:cNvSpPr/>
          <p:nvPr/>
        </p:nvSpPr>
        <p:spPr>
          <a:xfrm>
            <a:off x="457200" y="6421320"/>
            <a:ext cx="821844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ff"/>
                </a:solidFill>
                <a:latin typeface="Arial"/>
              </a:rPr>
              <a:t>Ambienti di Programmazione per il Software di Bas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84200" y="4355640"/>
            <a:ext cx="64008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hell 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7600" y="262080"/>
            <a:ext cx="83232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ff"/>
                </a:solidFill>
                <a:latin typeface="Arial"/>
              </a:rPr>
              <a:t>Shell scrip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55240" y="1265400"/>
            <a:ext cx="869940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rcizi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unes salva la musica in cartelle cantanti e in cartelle album per ogni cantante in formato m4a che pochi lettori riconosco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zare uno script (trasformMusic) che trasforma tutti i file in formato m4a in mp3 e uno script removeMusic che cancella tutti i file m4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non è installato, con ubuntu basta eseguire: sudo apt-get install ffmpeg Quindi per convertire: ffmpeg -i "canzone.m4a" -b 320k "canzone.mp3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script funziona con quasi tutti i formati, basta sostituire nello script la dicitura *.m4a con il vostro formato (per esempio *.og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7600" y="262080"/>
            <a:ext cx="83232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ff"/>
                </a:solidFill>
                <a:latin typeface="Arial"/>
              </a:rPr>
              <a:t>Shell scrip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5600" y="1265040"/>
            <a:ext cx="386568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f [ $a –lt $b ];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cho ”a &lt; b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cho ”a &gt;=b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lt = less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gt = greater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le = less or equal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ge = greater or equal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=, != uguale, dive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740120" y="1276200"/>
            <a:ext cx="386424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f [ -d $file1];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cho ”$file1 e’ una cartella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f = è un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h = è un link simbo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d = è una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97000" y="5772240"/>
            <a:ext cx="83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pluto.it/files/ildp/guide/ab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7600" y="262080"/>
            <a:ext cx="83232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ff"/>
                </a:solidFill>
                <a:latin typeface="Arial"/>
              </a:rPr>
              <a:t>Shell scrip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5600" y="1265400"/>
            <a:ext cx="8507520" cy="19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ad line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memorizza nella variabile linea l’input dell’u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–n “inserisci un numero: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nu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hai inserito $numer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409680" y="3556080"/>
            <a:ext cx="358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n [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lis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]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 </a:t>
            </a:r>
            <a:br>
              <a:rPr sz="2000"/>
            </a:b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 comando(i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.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4600440" y="3613320"/>
            <a:ext cx="395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f in $(ls);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ho “$f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504720" y="5334120"/>
            <a:ext cx="813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= $(comando)   restituisce l’output di comando nella variabil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7600" y="262080"/>
            <a:ext cx="83232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ff"/>
                </a:solidFill>
                <a:latin typeface="Arial"/>
              </a:rPr>
              <a:t>Shell scrip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55600" y="1265040"/>
            <a:ext cx="850752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gomenti di uno script b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$# numero di argo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$0 nome dello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$1, $2, ……  n-esimo argo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$*    Tutti i parametri posizionali visti come un'unica pa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$@     Simile a $*, ma ogni parametro è una stringa tra apici (quoting),Questo significa, tra l'altro, che ogni parametro dell'elenco viene considerato come una singola par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. ‘arg1’ ‘arg 2’ ‘arg3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7600" y="262080"/>
            <a:ext cx="83232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ff"/>
                </a:solidFill>
                <a:latin typeface="Arial"/>
              </a:rPr>
              <a:t>Shell scrip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55240" y="1195560"/>
            <a:ext cx="428796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OGFILE=/tmp/error_libreoffice_conversion.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f [[ $# = 0 ]];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cho "Usage: $0 file1.ods ..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xi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f [[ -n $(pgrep soffice) ]];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cho "Close all libreoffice instance befor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xi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or i in $@;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#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f [[ ! -f "$i" || -z $(echo "$i" | grep -E '\.ods$') ]];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cho "Only .ods files are accepted ($i)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…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711680" y="1206360"/>
            <a:ext cx="42879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# conv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cho -n "convert ${i}: 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breoffice -nologo -convert-to "xlsx" "$i"  2&gt;&amp;1 &gt;&gt; $LOG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#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f [[ $? = 0 ]];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sg="File converted successfull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sg="An error occurred (view $LOGFILE )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cho "$ms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x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7600" y="262080"/>
            <a:ext cx="83232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ff"/>
                </a:solidFill>
                <a:latin typeface="Arial"/>
              </a:rPr>
              <a:t>Shell scrip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5240" y="1265400"/>
            <a:ext cx="869940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rciz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ivere un programma shell che scriva in un file gli utenti attivi sul pc (e i loro programmi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programma è invocato come seg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Utenti &lt;nome_file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memorizza nel file nome_file il nome di tutti gli utenti e per ogni utente i programmi che stanno usan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RIMENTO: utilizzare who -q per conoscere gli utenti (e poi head.. per prendere solo gli utenti) e ps -uNome_Utente per vedere che programmi l'utente sta realizzando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eliminare i duplicati con un for si mettono gli utenti in un file utenti.t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si può usare cat utenti.txt |sort | uniq (che ordina prima un file e poi elimina i duplicat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7600" y="262080"/>
            <a:ext cx="83232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ff"/>
                </a:solidFill>
                <a:latin typeface="Arial"/>
              </a:rPr>
              <a:t>Shell scrip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55240" y="1265400"/>
            <a:ext cx="869940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Testing ranges of charac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ho; echo "Hit a key, then hit return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Key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"$Keypress"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[:lower:]]  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ho "Lowercase letter” 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[:upper:]] 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ho "Uppercase letter”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0-9]  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ho "Digit” 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 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ho "Punctuation, whitespace, or other”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7600" y="262080"/>
            <a:ext cx="83232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ff"/>
                </a:solidFill>
                <a:latin typeface="Arial"/>
              </a:rPr>
              <a:t>Shell scrip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55240" y="1265400"/>
            <a:ext cx="869940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rciz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ivere un programma shell che cancelli i file inutili da una serie di cartel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programma è invocato come seg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isci &lt;cartella1&gt; &lt;cartella2&gt;.... &lt;cartellan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ogni cartella, il programma chiederà, leggendo da tastiera, quali tipi di file eliminare (esempio: .txt , .java, ecc.). L utente scriverà con la tastiera le estensioni da eliminare e indicherà la terminazione (nessun altra estensione) scrivendo EN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programma per ogni serie di estensione eliminata dovrà scrivere: Ho eliminato 10 file .txt oppure Non esiste nessun file con estensione .txt 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̀ gradito il controllo degli errori (cartella non esistente, ecc.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7600" y="262080"/>
            <a:ext cx="83232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ff"/>
                </a:solidFill>
                <a:latin typeface="Arial"/>
              </a:rPr>
              <a:t>Shell scrip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55240" y="1265400"/>
            <a:ext cx="869940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rcizi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ivere un programma shell che riceva da linea di comando 5 argomenti di tipo intero positivo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programma leggerà il nome di una cartella da tastiera (con l istruzione read), e quindi inserirà la media dei 5 numeri in tutti i file con estensione .txt contenuti nella cartella. Il programma deve gestire i casi d eccezione (numero di argomenti diverso da 5, interi non positivi, cartella non esistente) interrompendo l’esecuzione con un messaggio all’ut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esempio, se il programma si chiama esercizio e l’utente batte da tastiera cartmedia, l invocazione d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ercizio 5 10 10 20 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iverà 10 in tutti i file con estensione .txt contenuti nella cartella cartmed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8:52:07Z</dcterms:created>
  <dc:creator>.</dc:creator>
  <dc:description/>
  <dc:language>en-US</dc:language>
  <cp:lastModifiedBy>abc</cp:lastModifiedBy>
  <dcterms:modified xsi:type="dcterms:W3CDTF">2012-10-24T15:57:36Z</dcterms:modified>
  <cp:revision>331</cp:revision>
  <dc:subject/>
  <dc:title>Diapositiva 1</dc:title>
</cp:coreProperties>
</file>